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8D7A-67E2-418A-A72C-F62B6795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A175-18D9-4F89-9102-DC0B46CA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9A52-6F27-4124-84E9-8DB3A83A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4B42-557D-4899-A4C7-62BEE42F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2F36-AB47-45DE-9BC3-347FA743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9C74-D7B0-4CFF-82F8-913D16E1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6112-7870-44A6-BFE2-40ADA424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F621-1325-47BE-850C-B3796EC3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34A7-6A20-41E0-AD56-3C80B792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E5D6-496C-4596-B308-571246EB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8094-E780-4F74-AE95-86FB2BEC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2F56-F8C8-4432-8A7A-4F559CED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8A99-E0CB-44C4-8AA1-703AB64B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80AE-730A-4DFC-AD48-790EAAC3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DAF2-6070-4E41-AC11-447B6B6C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43B5-A4C7-48C7-A36F-ECC133BB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7C16-5AB9-4B2A-974E-E9FE29BC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1B92-675A-4817-B06C-A86139FD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E67A-FB12-4547-BA87-BC0978D2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92E9-011C-48E0-A902-B9AAE49C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F343-C590-46D1-99F8-C9B4EE37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78A0-1623-46DD-81A1-A6991269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8BDC-8312-429A-BB78-B6B4DCC9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D2C5-FA92-413A-8F22-CA6B9187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C275-CFF4-4E9B-B507-A992BA9D3A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6C50-5509-4ABA-8CA8-8762EF0D69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y Personal Learning Profi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avannah McLaugh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left brain dominate, that means I like to work with things that can be seen or touc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a visual learner, that means I learn best by reading, watching, viewing information in print, and pictures or graph. I am also tactile/kinesthetic, that means I also learn best by doing, constructing a project, building or writing.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also concrete sequential, that means I tend to be strongly left brain domin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also a right brain. That means my right brain is very active. I have a lot of imagin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rtant to learn how your brain works becaus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long-term assignment, if I am stuck, use the information to help you get through problems you need help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use what I have learned about the way my brain works in school. I can do this when 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help but cant get s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5:31:27Z</dcterms:created>
  <dc:creator>student</dc:creator>
  <dc:description/>
  <dc:language>en-US</dc:language>
  <cp:lastModifiedBy>student</cp:lastModifiedBy>
  <dcterms:modified xsi:type="dcterms:W3CDTF">2010-11-17T16:58:59Z</dcterms:modified>
  <cp:revision>4</cp:revision>
  <dc:subject/>
  <dc:title>My Personal Learning Profile</dc:title>
</cp:coreProperties>
</file>